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EF3-C371-491D-AF78-A7967091B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B996-22AA-42DA-A299-6AB00AE6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7E0-8CA3-4350-BED8-9576A790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2F4-4344-4AB0-B7D4-1E40968A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8E7-083E-4339-A0A0-086D007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10F-4A9C-4005-98F9-910289B6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676-E728-4EFD-9348-96D7C0A1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074A-D134-4BD1-A70C-D624944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B71-DAF8-4AB2-9D56-71EAB2D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C73-C253-4D0D-984F-AB7FCAD8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E2C-CB2D-41CD-B6E6-0F2DB76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BAD-04A1-45B0-9EDF-11895A7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A13-A6E6-482C-BDEA-0D05E119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D55-DBE6-46AB-9608-B0EFF2D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817-090F-42A1-B71B-EE7DFA56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B1CB-1B08-4B53-ADAC-5E8A4D6C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3809880"/>
            <a:ext cx="64008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bceff"/>
                </a:solidFill>
                <a:uFillTx/>
                <a:latin typeface="Arial"/>
              </a:rPr>
              <a:t>Geographical Thin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556080" y="4343400"/>
            <a:ext cx="20318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9000"/>
                </a:solidFill>
                <a:latin typeface="Arial"/>
              </a:rPr>
              <a:t>dr. laffi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80" y="0"/>
            <a:ext cx="5848200" cy="378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00800" y="3429000"/>
            <a:ext cx="1646280" cy="14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902120" y="5410080"/>
            <a:ext cx="1384560" cy="88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Picture 10" descr=""/>
          <p:cNvPicPr/>
          <p:nvPr/>
        </p:nvPicPr>
        <p:blipFill>
          <a:blip r:embed="rId4"/>
          <a:stretch/>
        </p:blipFill>
        <p:spPr>
          <a:xfrm>
            <a:off x="6037200" y="30240"/>
            <a:ext cx="1979640" cy="148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6299280" y="5410080"/>
            <a:ext cx="1270080" cy="8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3" descr=""/>
          <p:cNvPicPr/>
          <p:nvPr/>
        </p:nvPicPr>
        <p:blipFill>
          <a:blip r:embed="rId6"/>
          <a:srcRect l="0" t="7346" r="0" b="0"/>
          <a:stretch/>
        </p:blipFill>
        <p:spPr>
          <a:xfrm>
            <a:off x="6299280" y="6400800"/>
            <a:ext cx="1270080" cy="8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14" descr=""/>
          <p:cNvPicPr/>
          <p:nvPr/>
        </p:nvPicPr>
        <p:blipFill>
          <a:blip r:embed="rId7"/>
          <a:srcRect l="0" t="0" r="48327" b="3397"/>
          <a:stretch/>
        </p:blipFill>
        <p:spPr>
          <a:xfrm>
            <a:off x="6019920" y="1676520"/>
            <a:ext cx="1981080" cy="15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8"/>
          <a:srcRect l="0" t="0" r="49379" b="0"/>
          <a:stretch/>
        </p:blipFill>
        <p:spPr>
          <a:xfrm>
            <a:off x="8229600" y="30240"/>
            <a:ext cx="1765440" cy="459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9"/>
          <a:stretch/>
        </p:blipFill>
        <p:spPr>
          <a:xfrm>
            <a:off x="7594560" y="5334120"/>
            <a:ext cx="2565360" cy="1982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4572000" y="7375680"/>
            <a:ext cx="41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images gathered from Google Images.  URLs avail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156280" y="5440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oman Emp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451560" y="66294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il Tr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7594560" y="5410080"/>
            <a:ext cx="7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Internet Ear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1" descr="age of discovery"/>
          <p:cNvPicPr/>
          <p:nvPr/>
        </p:nvPicPr>
        <p:blipFill>
          <a:blip r:embed="rId10"/>
          <a:srcRect l="0" t="0" r="0" b="21549"/>
          <a:stretch/>
        </p:blipFill>
        <p:spPr>
          <a:xfrm>
            <a:off x="4902120" y="6400800"/>
            <a:ext cx="1370160" cy="83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 Box 22"/>
          <p:cNvSpPr/>
          <p:nvPr/>
        </p:nvSpPr>
        <p:spPr>
          <a:xfrm>
            <a:off x="5130720" y="69343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ge of Dis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451560" y="5440320"/>
            <a:ext cx="838080" cy="21564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767676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lave Tr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6" descr=""/>
          <p:cNvPicPr/>
          <p:nvPr/>
        </p:nvPicPr>
        <p:blipFill>
          <a:blip r:embed="rId11"/>
          <a:srcRect l="4370" t="25857" r="53675" b="34039"/>
          <a:stretch/>
        </p:blipFill>
        <p:spPr>
          <a:xfrm>
            <a:off x="8229600" y="121932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12"/>
          <a:stretch/>
        </p:blipFill>
        <p:spPr>
          <a:xfrm>
            <a:off x="0" y="5410080"/>
            <a:ext cx="1879560" cy="16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9" descr=""/>
          <p:cNvPicPr/>
          <p:nvPr/>
        </p:nvPicPr>
        <p:blipFill>
          <a:blip r:embed="rId13"/>
          <a:stretch/>
        </p:blipFill>
        <p:spPr>
          <a:xfrm>
            <a:off x="2031840" y="5410080"/>
            <a:ext cx="2768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440" y="0"/>
            <a:ext cx="6176880" cy="5099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60" y="5181480"/>
            <a:ext cx="711504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073763"/>
                </a:solidFill>
                <a:uFillTx/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45818e"/>
                </a:solidFill>
                <a:latin typeface="Arial"/>
              </a:rPr>
              <a:t> of Hindustan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6994440" y="-15840"/>
            <a:ext cx="3065400" cy="277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4267080" y="6299280"/>
            <a:ext cx="1922760" cy="1177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6400800" y="2844720"/>
            <a:ext cx="36957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laffitte</cp:lastModifiedBy>
  <dcterms:modified xsi:type="dcterms:W3CDTF">2011-04-11T14:42:48Z</dcterms:modified>
  <cp:revision>7</cp:revision>
  <dc:subject/>
  <dc:title>PowerPoint Presentation</dc:title>
</cp:coreProperties>
</file>